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D32D-EA08-441C-8E05-B81B9BFEF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F685-B0DB-4E15-9E3E-27D989763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AA42-4EA8-45DF-846F-4ACC5B096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FD73-6FA4-4D18-9DD5-22F27CA7F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B952-1F10-4617-BFC8-877BA1959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74E1-8B60-4987-ACE5-50AFF4D13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3F9A-2870-4248-A342-B95DCF561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477E-136D-4741-A144-41645A9FF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E2FD-06BF-4CE5-8C3E-650B2A868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2134-3E22-4E8A-8208-61E6C010F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70C7-2E0D-4A3F-94EC-935009FAF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2F8E-6156-44A0-B79E-EAFC20623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6BFC-A3EE-4F52-B862-1D41271FC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4C66-6B75-4E36-AE70-3C307136F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CB10-901A-4700-B236-E104F35D5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E3CD-4424-4EBA-B378-BC5A1B4F2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EC49-C9AE-43A1-90FD-10C6F76A4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396-4027-49E0-B679-D462EDF05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CF8-89DB-4E3A-9044-F32F39E6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E5F-E0D6-452E-B9A3-A5B087E0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A96-4CDD-4118-ADCE-99D399F4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6BC-873E-42FE-806F-E00ED524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E2D-9999-49CF-AB58-FBB8F60F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072-903D-43FB-9474-8AFFE5CA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B0C-A2C9-413B-8FE1-8B8CFF70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D41-0F73-4D94-B6F3-A995714C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48A-0B5A-4186-9ED4-82E7E254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844-11CA-4E8A-8F39-3421898F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A79-9A7D-4ADF-BF85-8D780B1B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13E-12C0-44ED-98AC-82252AE1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8A2A-4329-4C09-B401-FEFD5B1244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kr-kralovehradecky.cz/" TargetMode="External"/><Relationship Id="rId2" Type="http://schemas.openxmlformats.org/officeDocument/2006/relationships/hyperlink" Target="mailto:phnatova@kr-kralovehradecky.cz" TargetMode="External"/><Relationship Id="rId3" Type="http://schemas.openxmlformats.org/officeDocument/2006/relationships/hyperlink" Target="mailto:ikudrnacova@kr-kralovehradecky.cz" TargetMode="External"/><Relationship Id="rId4" Type="http://schemas.openxmlformats.org/officeDocument/2006/relationships/hyperlink" Target="mailto:mtorok@kr-kralvehradecky.cz" TargetMode="External"/><Relationship Id="rId5" Type="http://schemas.openxmlformats.org/officeDocument/2006/relationships/hyperlink" Target="mailto:ilaskova@kr-kralovehradecky.cz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phnatova@kr-kralovehradecky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minář pro příjemce finanční podpory z OP V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íjen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4"/>
          <p:cNvSpPr/>
          <p:nvPr/>
        </p:nvSpPr>
        <p:spPr>
          <a:xfrm>
            <a:off x="0" y="5214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program  je spolufinancován Evropským sociálním fond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státním rozpočtem České republ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ublicita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7120" y="178560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  povinnost  informovat příjemce pomoci a širokou veřejnost o tom, že projekt realizovaný v rámci OP VK je financován ze zdrojů ESF a státního rozpočtu ČR - Nařízení Evropské komise (ES) č. 1828/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ublicita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7856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ožné nástroje propagačních aktiv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ebové stránky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ublikace, školící a informační materiá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etáky a plaká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agační předměty – vlajka EU, loga ESF a OP VK, hlavičkové papíry ap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0040" y="171468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osti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ístění loga Evropské unie (včetně textu Evropská unie), ESF a loga OP VK (včetně textu „Investice do rozvoje vzdělávání“)  + sdělení „Tento projekt je spolufinancován ESF a státním rozpočtem ČR“ na všech materiálech vztahujících se k realizaci projekt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ístit vlajku EU v místnostech, kde se konají konference, semináře, školení, výstavy apo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arevná ver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ernobílá ver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714240" y="2286000"/>
            <a:ext cx="53578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rázek 8" descr="ESF+EU_text2.jpg"/>
          <p:cNvPicPr/>
          <p:nvPr/>
        </p:nvPicPr>
        <p:blipFill>
          <a:blip r:embed="rId1"/>
          <a:stretch/>
        </p:blipFill>
        <p:spPr>
          <a:xfrm>
            <a:off x="785880" y="2357280"/>
            <a:ext cx="2111400" cy="857520"/>
          </a:xfrm>
          <a:prstGeom prst="rect">
            <a:avLst/>
          </a:prstGeom>
          <a:ln w="0">
            <a:noFill/>
          </a:ln>
        </p:spPr>
      </p:pic>
      <p:pic>
        <p:nvPicPr>
          <p:cNvPr id="79" name="Obrázek 9" descr="logo_msmt.jpg"/>
          <p:cNvPicPr/>
          <p:nvPr/>
        </p:nvPicPr>
        <p:blipFill>
          <a:blip r:embed="rId2"/>
          <a:stretch/>
        </p:blipFill>
        <p:spPr>
          <a:xfrm>
            <a:off x="3000240" y="2357280"/>
            <a:ext cx="1793880" cy="86076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10" descr="logo_OP VK.jpg"/>
          <p:cNvPicPr/>
          <p:nvPr/>
        </p:nvPicPr>
        <p:blipFill>
          <a:blip r:embed="rId3"/>
          <a:stretch/>
        </p:blipFill>
        <p:spPr>
          <a:xfrm>
            <a:off x="4929120" y="2357280"/>
            <a:ext cx="1120680" cy="857520"/>
          </a:xfrm>
          <a:prstGeom prst="rect">
            <a:avLst/>
          </a:prstGeom>
          <a:ln w="0">
            <a:noFill/>
          </a:ln>
        </p:spPr>
      </p:pic>
      <p:sp>
        <p:nvSpPr>
          <p:cNvPr id="81" name="Obdélník 7"/>
          <p:cNvSpPr/>
          <p:nvPr/>
        </p:nvSpPr>
        <p:spPr>
          <a:xfrm>
            <a:off x="714240" y="4643280"/>
            <a:ext cx="53578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3" descr="ESF+EU_text_CB.jpg"/>
          <p:cNvPicPr/>
          <p:nvPr/>
        </p:nvPicPr>
        <p:blipFill>
          <a:blip r:embed="rId4"/>
          <a:stretch/>
        </p:blipFill>
        <p:spPr>
          <a:xfrm>
            <a:off x="857160" y="4786200"/>
            <a:ext cx="207180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4" descr="logo_msmt_cb.jpg"/>
          <p:cNvPicPr/>
          <p:nvPr/>
        </p:nvPicPr>
        <p:blipFill>
          <a:blip r:embed="rId5"/>
          <a:stretch/>
        </p:blipFill>
        <p:spPr>
          <a:xfrm>
            <a:off x="3000240" y="4786200"/>
            <a:ext cx="1714680" cy="82260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5" descr="logo_OP VK.jpg"/>
          <p:cNvPicPr/>
          <p:nvPr/>
        </p:nvPicPr>
        <p:blipFill>
          <a:blip r:embed="rId6">
            <a:grayscl/>
          </a:blip>
          <a:stretch/>
        </p:blipFill>
        <p:spPr>
          <a:xfrm>
            <a:off x="4857840" y="4786200"/>
            <a:ext cx="1071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ožnosti provedení změn projekt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řípadě, že v realizovaném projektu dochází k odchylkám od schválené projektové žádosti a podmínek stanovených právním ak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měny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jemce je oprávněn projekt upravit nebo pozměnit bez předchozího souhlasu poskytovate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ze v případě, že změna neovlivní dosažení cílů projektu a nedotkne se povinností plynoucích z právního a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jemce o nepodstatné změně informuje  poskytovatele v nejbližší průběžné monitorovací zprávě!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ůvodnění , proč ke změně doš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vedení data platnosti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podstatné změn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rozpočtu  - přesun fin. prostředků v rámci jedné kapit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sun fin. prostředků mezi kapitolami rozpočtu do výše 15 % původního objemu kapitoly, z níž jsou fin. prostředky přesouvány (za podmínky dodržení limitů kapitol a nelze navyšovat položky krácené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rezen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ová čá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stáv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ční čá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 a závěrečná disku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voření nové položky rozpočtu nebo její zrušení (za podmínky že neznamená začátek nové klíčové aktivity nebo ukončení stávajíc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kontaktních údajů příjemce (oznamovat neprodleně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sídla příjemce (oznamovat neprodleně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kontaktní osoby projektu a manažera projektu (oznamovat neprodleně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  změna názvu projekt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  změna názvu subjektu příjem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ve statutu plátce D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statutárního zástup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  změny  smluv s partnery (mající charakter nepodstatné změny - formálního charakteru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audi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armonogramu realizace jednotlivých aktivit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lší změny, které neovlivní dosažení monitorovacích indikátorů a plnění cílů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řípadě změn rozpočtu nelze uvedený postup použít u organizací, které mají v oblasti mzdových výdajů závazné ukazatele/lim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řípadě ostatních organizací lze provést navýšení v kapitole osobních výdajů maxim. do výše objemu 15 % rozpočtu kapitoly (ze které jsou prostředky převáděn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y, které výrazně mění charakter projektu oproti schválené projektové žád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statná změna nesmí být provedena před jejím schválením poskytovatelem podpory a před provedením úpravy nebo doplněním právního akt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jemce informuje o navrhovaných změnách poskytovatele podpory včetně zdůvodnění žádosti o změ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Žádost o schválení podstatné změny projektu (vzor viz www.kr-kralovehradecky.cz) – zašle příjemce poskytovateli doporučeným dopis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řípadě schválení návrhu změny poskytovatelem – vystavení dodatku/úpravy právního a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atek/úprava právního aktu nabývá účinnosti dnem podpisu oběma stran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souhlasení změn nelze provést se zpětnou platností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dstatné změn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příjemce projekt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právní formy příjem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ákoli změna týkající se monitorovacích indikátorů  (sníž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pojení nového partnera do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smlouvy příjemce s partnerem mající charakter 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sun fin. prostředků mezi kapitolami rozpočtu vyšší než 15 % původního objemu kapitoly, z níž jsou fin. prostředky přesouvá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začátku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data ukonč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bankovního účtu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stoupení partnera v průběhu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statné změ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ý sta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chválení podpořených grantových projektů Zastupitelstvem KH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. 6.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mlouvy o realizaci grantového projektu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epsání proběhlo v průběhu červenc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hájení real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rpen 2009 – listopad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měny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řípadě pochybností se má za to, že se jedná o změnu podstatn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tahy s part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 Partneři musejí v průběhu realizace projektu spolupracovat na naplňování  cílů a monitorovacích indikátorů proje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 Partneři se musejí podílet na zpracování monit. zpráv  a předkládat příjemci veškeré doklady, které jsou podkladem pro vypracování M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tahy s part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ždý partner obdrží kopie MZ a je povinen je archivovat minim. do roku 20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řípadě kontroly na místě je partner povinen poskytnout veškeré podklady týkající se jeho účasti na proje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rtner odsouhlasuje navrhované podstatné změny proje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nitorování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 Monitorování je průběžné sledování, sběr dat a informací o projektech, jak kvantitativních tak kvalitativních, subjekty implementační struktury OP VK z hlediska dosahování stanovených cíl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nitorování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onitorování slouží jak příjemcům, tak poskytovateli podpory ke sledování realizace projektu a k případné identifikaci rizik a zabránění chybám a nesrovnalostem ve financování proje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roveň zabezpečuje dohled nad efektivním využitím finančních prostředků z ES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nitorování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ůběžné monitorovací zpráv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předkládají se v průběhu realizace projektu minim. 1 x za 3 měsí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ávěrečná monitorovací zpráv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předkládá se po ukončení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onitorovací zpráva o udržitelnost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1 x ročně po dobu 5 let od ukonč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troly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jemce (partner) má povinnost umožnit provádění kontrol projektu – kontroly věcné i finanční stránky realizace projektu v rámci kontroly na míst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troly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ílem je prověřování, zda jsou dodržovány právní předpisy a opatření, zda je zajištěna ochrana veřejných prostředků proti rizikům a nesrovnalostem a zda nedochází k nehospodárnému, neúčelnému a neefektivnímu nakládání s veřejnými prostřed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roly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ormy kontrol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dministrativní kontrol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administrativní ověřování projektu, na základě předložených M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ntroly na míst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kontrola fyzické realizace projektů) – je prováděna formou veřejnosprávní kontroly, jedná se o ověřování skutečného stavu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roly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roly na místě provádí vícečlenná kontrolní skup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rolní pracovníci se prokáží Pověřením k provedení kontroly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jemce má právo být o připravované kontrole informován v dostatečném předstihu, rovněž o věcném zaměření kontroly a o době trvání kontro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k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164268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blast podpory 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lokace na výzvu   90 mil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ložené projekty 395,5 mil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ložené projekty  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y doporučené k realizaci 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roly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Poskytovatel nemusí v předstihu informovat o kontrole, jedná-li se o kontrolu na základě zjištěným nedostatků z MZ, žádostí o platbu nebo podnětů na podezření na nesrovnalost, a dále v případě, že hrozí zmaření účelu kontro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roly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jemce je povin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vořit podmínky pro provedení kontrol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jistit materiální a technické zabezpečení výkonu kontrol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ě se kontroly zúčastnit, popř. pověřit odpovědnou osob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kytnout součinnost při kontro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ést náklady spojené s výkonem kontrol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roly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ložit kontrolní skupině na vyžádání dokumenty potřebné pro provedení kontrol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nit vstup na pozemky, do budov apod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ložit výsledky předchozích kontrol ve vztahu k předmětu kontrol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jmout opatření k odstranění zjištěných nedostatk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n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uznání výdajů (neoprávněně využité prostředky) + penále (1 promile denně z částky neoprávněně použitých prostředk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uvní pokuta (např. nedodržení naplnění monitorovacích indikátorů, není-li včas odevzdána M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lší viz Smlouva o realizaci G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Uložení dokumentů, jejichž oběh byl ukončen, zkontrolován, vyhodnocen, pro možnost jejich opětovného využití a rychlého přístupu k těmto dokumentů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inimálně do konce roku 2025 (10 let od ukončení operačního programu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jemci a partneři mají rovněž povinnost archivovat dokumenty podle závazných právních předpisů ČR (např. mzdové listy 30 let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čet dokumentů a výstupů projektu podléhajících archivaci viz Pp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Udržitel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ost udržet vybrané klíčové aktivity nejméně po dobu 5 let ode dne ukončení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alší inform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kr-kralovehradecky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odkaz Evropská unie, Finanční podpora na úrovni kraje, OP V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Ing. Petra Hnátová, </a:t>
            </a:r>
            <a:r>
              <a:rPr b="0" lang="cs-CZ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hnatova@kr-kralovehradecky.c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gr. Ivana Kudrnáčová, </a:t>
            </a:r>
            <a:r>
              <a:rPr b="0" lang="cs-CZ" sz="2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kudrnacova@kr-kralovehradecky.c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c. Michal Törok, </a:t>
            </a:r>
            <a:r>
              <a:rPr b="0" lang="cs-CZ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mtorok@kr-kralvehradecky.c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c. Iveta Lásková, </a:t>
            </a:r>
            <a:r>
              <a:rPr b="0" lang="cs-CZ" sz="2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ilaskova@kr-kralovehradecky.c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Lenka Rychterová</a:t>
            </a: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rychterova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@kr-kralovehradecky.cz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: 495 817 48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k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64268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blast podpory 1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lokace na výzvu   30 mil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ložené projekty 108,4 mil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ložené projekty 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y doporučené k realizaci 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kuji za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k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0040" y="164268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blast podpory 1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lokace na výzvu   45 mil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ložené projekty  107,6 mil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ložené projekty  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y doporučené k realizaci 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kumen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840" y="160020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íručka pro příjem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podpory OP V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rz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platnosti od 15 . dubn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zveřejněna na www.kr-kralovehradecky.c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kumen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mlouva o realizaci grantového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řípadě rozporu PpP a Smlouvy platí   podmínky stanovené Smlouv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vinnosti vyplývající ze Smlouvy o realizaci 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ost dodržovat údaje a skutečnosti uvedené ve schválené P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ost nakládat se získaným majetkem hospodárně, zabezpečit jej proti poškození, ztrátě nebo odcizení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ání platebních a finančních podmínek viz finanční část prezent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4:21:46Z</dcterms:created>
  <dc:creator>280</dc:creator>
  <dc:description/>
  <dc:language>en-US</dc:language>
  <cp:lastModifiedBy>Petra Hnátová</cp:lastModifiedBy>
  <dcterms:modified xsi:type="dcterms:W3CDTF">2009-10-12T06:01:03Z</dcterms:modified>
  <cp:revision>254</cp:revision>
  <dc:subject/>
  <dc:title>Snímek 1</dc:title>
</cp:coreProperties>
</file>