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DD1E-695B-420A-8D49-52B995EEF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CD98-E2EC-4593-A074-971876518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0029-9338-487A-BAA2-A40868CD3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1CA2-2FAC-4857-9DAA-FFC86D982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5886-BA4E-4D4F-81D4-827B7CA28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457D-969F-4D56-873E-487949CEA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A9BE-B727-41A3-9E66-46BCADBE9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C930-9421-4907-AB22-D8365EECF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3CAB-2A11-4936-9177-C3BBE4423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F2D8-C981-4BBA-A6E4-7E2147BE0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0AD7-4692-465E-A84E-9239C631E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57B3-DF38-41BE-9EC2-87C4A1C2C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6F9A-EE0A-4E32-9181-A33B749B2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CDEF-67DC-4BC0-8A33-DDC0D3F39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70B7-21F1-4171-837C-AE77DEE59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6139-42DB-43C2-81F9-3C1FD6D55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8661-5F6E-458D-8312-268DCDC66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12A8-CC1D-43CE-8F81-09409CDD4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0A9C-F5DC-47B3-95EB-8B501BD3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A9D-74E2-4855-8AB4-F2E2B3E5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A01D-8191-4856-A0B8-D45AEC10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DAC-2103-48AC-82A9-40FD2302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E022-2DEB-4E10-ABA8-F66523B4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03B-825F-4E97-AAEC-D47B3A2D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89E-5A08-4E6A-A1FA-CEE5F5CA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29F-23DA-408C-820B-FFDBD602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2260-41C3-45B4-903A-D2FCEAB4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C9A-0DC0-43DD-88AA-01300523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AEE-BED5-442C-A218-B95AF56C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B4D-3C46-49BF-AB11-16C94909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7436-B145-4F3D-9D53-FC3D37F2C8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phnatova@kr-kralovehradecky.cz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vazné postupy pro zadávání zakáz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adávání zakázek při pořizování zboží 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ělení zakáz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je-li z hlediska předmětu plnění zakázky výhodné rozdělit předmět zakázky na části a tyto části zadat v rámci vypsání jednoho výběrového řízení odděleně, je to možné pouz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a podmínky sečtení hodnot částí zakázk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teprve pak zvolit postup dle stanovených limit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adávání zakázek při pořizování zboží 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inimální obsah výz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dentifikační údaje zadavatel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zev a popis předmětu zakázky, věcné  a časové vymezení zakázky a její specifikace dle charakteru zakázk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ádaná hodnota zakázk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hůta a místo pro podání nabídk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daje o hodnotících kritériích (váha v 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adávání zakázek při pořizování zboží 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inimální obsah výz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formaci o tom, že se nejedná o zadávací řízení dle zákona č. 137/2006 Sb. o veřejných zakázká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formace o tom, v jakém jazyce může být nabídka podá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daje článku 9 nařízení Komise (ES) č. 1828/2006 – symbol EU, odkaz na ESF ap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adávání zakázek při pořizování zboží 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inimální obsah výz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odkaz na kontaktní osobu zadavatele, její telefon a e-mailová adr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mínky poskytnutí zadávací dokument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tanovení o tom, že zadavatel může zadání zakázky zruš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adávání zakázek při pořizování zboží 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akázky malého rozsahu  - do 100 000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  stačí zaslat objednávku jednomu vhodnému dodavateli – písemně nebo elektronicky a potvrzeno přijetí, nemusí být nutně uzavřena písemná smlou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adávání zakázek při pořizování zboží 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akázky malého rozsahu  - 100 000  - 500 000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lovit 3 vhodné dodavatele (Výzva k podání nabíde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hůta pro podávání nabídek minim. 9 kalendářních dní ode dne odeslání výz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cení provádí pověřená osoba zadavate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sí být uzavřena písemná smlou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adávání zakázek při pořizování zboží 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akázky malého rozsahu  - 500 000 – 2 mil.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lovit 5 vhodných dodavatelů a uveřejnit výzvu na webových stránkách Z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hůta pro podávání nabídek minim. 10 kalendářních dní ode dne odeslání výz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cení provádí 3 členná hodnotící kom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sí být uzavřena písemná smlou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adávání zakázek při pořizování zboží 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akázky malého rozsahu  -  2 mil.  - 6 mil.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lovit 5 vhodných dodavatelů a uveřejnit výzvu na webových stránkách Z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hůta pro podávání nabídek minim. 15 kalendářních dní ode dne odeslání výz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cení provádí 3 členná hodnotící kom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sí být uzavřena písemná smlou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Lenka Rychterová</a:t>
            </a:r>
            <a:br>
              <a:rPr sz="3200"/>
            </a:b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rychterova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@kr-kralovehradecky.cz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: 495 817 48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ěkuji za pozorn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adávání zakázek při pořizování zboží 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 Pokud vnitřní předpisy zadavatele stanovují přísnější postupy pro zadávání zakázek, než jsou uvedeny v této příručce,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usí zadavatel respektovat i tyto vlastní přísnější předpi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adávání zakázek při pořizování zboží 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 V případě, že příjemce pověří prováděním zadávacích řízení partnera, doporučujeme, aby si smluvně zajistil i přechod odpovědnosti za provádění těchto čin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adávání zakázek při pořizování zboží 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anovení předmětu zakáz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a obdobná a spolu související plnění, které zadavatel zamýšlí zadat v průběhu jednoho účetního období, ne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a plnění, která spolu místně, věcně a časově souvisí, nebo jejichž předměty plnění tvoří jeden funkční cel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adávání zakázek při pořizování zboží 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-  Zadavatel nesmí předmět jedné zakázky rozdělit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adávání zakázek při pořizování zboží 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při určení předmětu zakázky není přípustné uvádět v oznámení o zahájení výběrového řízení požadavky nebo odkazy na obchodní firmy, názvy nebo jména, specifická označení zboží a služeb, užitné vzory, průmyslové vzory- hrozí znevýhodnění nebo vyloučení určitých uchazeč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adávání zakázek při pořizování zboží 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anovení předpokládané hodnoty zakáz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  cena vždy bez D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ost postupovat hospodárně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at za cenu obvyklou v čase a místě plnění zakáz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 není automaticky částkou z roz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sí vycházet ze zkušeností a průzkumu c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adávání zakázek při pořizování zboží 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ělení zakáz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postupovat tak, aby nedocházelo k dělení předmětu zakázky na menší zakázky s cílem snížit hodnotu pod stanovené lim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zít v úvahu všechna obdobná plnění v průběhu jednoho účetního období nebo spolu místně, věcně a časově souvisí nebo tvoří funkční celek a tato plnění sečí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adávání zakázek při pořizování zboží 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ělení zakáz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povinnost sčítání neplatí pro opakované zakázky, které zadavatel pořizuje nepravidelně, tj. podle svých aktuálních potřeb, a jejichž jednotková cena je v průběhu účetního období proměnlivá (nákup potravin, pohonných hmot, letenek apo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4:21:46Z</dcterms:created>
  <dc:creator>280</dc:creator>
  <dc:description/>
  <dc:language>en-US</dc:language>
  <cp:lastModifiedBy>Petra Hnátová</cp:lastModifiedBy>
  <dcterms:modified xsi:type="dcterms:W3CDTF">2009-10-12T06:04:15Z</dcterms:modified>
  <cp:revision>308</cp:revision>
  <dc:subject/>
  <dc:title>Snímek 1</dc:title>
</cp:coreProperties>
</file>