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1.gif" ContentType="image/gif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49E0-C907-4E83-BC9C-8FC237DA6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0BA3-CFB9-4DE7-AB68-1ED287B67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AE24-7A9D-41A4-956A-D3A796B8A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CF2E-E8D3-425E-8055-61148ECC2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2047-F88C-4C68-B7A4-778C01F37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E0CD-084B-4CC4-BB11-897E00991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7A8C-DDB4-4AA0-83FE-3DEB7B020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5457-2240-47A4-8A6D-D23C4077A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4639-B727-4725-9D14-055A8D838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C4D8-C692-4176-8AAF-B5CB75D91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5834-57E3-451A-A9F0-D3F572755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E550-8255-4DB9-890F-DA9E4ED69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8344-8D75-4456-8449-76120EE2A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A266-4E3D-40CC-A6CA-D572B36FE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3510-DCC3-4F75-8727-35FA6202D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EA0-A3B9-4299-88CD-A0864AC5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2A8-D3B7-4388-912C-B0D6A855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C19-E620-4083-82BE-F3E7391D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16B-D6D6-4BB0-817D-18E4D974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B36-FB43-46ED-B353-991474AB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445-65BE-4A66-AB72-A2217BD5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229-BFC0-463F-88F3-45B5439F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317-87EF-4469-8402-441B5C31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9FF-ABAF-47B5-B5BC-DD5F5783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326-4494-469C-9151-0BC5891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2CF-8965-49F5-9053-1BF3ED8E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813-F52F-4E52-B90F-59C40DF6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90F3-B448-4F4B-8122-16B470BC3F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Nadpis 1" descr=""/>
          <p:cNvPicPr/>
          <p:nvPr/>
        </p:nvPicPr>
        <p:blipFill>
          <a:blip r:embed="rId1"/>
          <a:stretch/>
        </p:blipFill>
        <p:spPr>
          <a:xfrm>
            <a:off x="768240" y="324000"/>
            <a:ext cx="7516800" cy="232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857680" y="4000680"/>
            <a:ext cx="43574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9.října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radec Král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ázek 3" descr="CSM002715.jpg"/>
          <p:cNvPicPr/>
          <p:nvPr/>
        </p:nvPicPr>
        <p:blipFill>
          <a:blip r:embed="rId2"/>
          <a:stretch/>
        </p:blipFill>
        <p:spPr>
          <a:xfrm>
            <a:off x="493560" y="3565440"/>
            <a:ext cx="200052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585000" y="5643720"/>
            <a:ext cx="7755120" cy="215640"/>
          </a:xfrm>
          <a:prstGeom prst="rect">
            <a:avLst/>
          </a:prstGeom>
          <a:solidFill>
            <a:srgbClr val="3366ff">
              <a:alpha val="59000"/>
            </a:srgbClr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5"/>
          <p:cNvSpPr/>
          <p:nvPr/>
        </p:nvSpPr>
        <p:spPr>
          <a:xfrm>
            <a:off x="928800" y="2864520"/>
            <a:ext cx="7072200" cy="9471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3a7ccb"/>
              </a:gs>
            </a:gsLst>
            <a:lin ang="16200000"/>
          </a:gradFill>
          <a:ln cap="rnd"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nanční č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loupec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latný rozpočet (schválený či upravený příjemcem) v Kč –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musí být uvedeny stejné hodnoty a rozpočtové položky jako v příloze č. 9 Přepracovaný rozpočet projektu, sloupec Platný rozpočet (schválený či upravený příjemce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částky uvedené u jednotlivých rozpočtových položek ve sloupci „Dosud prokázané výdaje v Kč“ nesedí na předchozí monitorovací zprávu, pokud byla MZ schválena v plné výš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úhrn sloupce „Aktuálně prokazované výdaje v Kč“ nesouhlasí s celkovou částkou uvedenou na Soupisce účetních dokladů, rovněž často nesouhlasí úhrny částek za jednotlivé rozpočtové položky ve sloupci „Aktuálně prokazované výdaje v Kč“ s částkami uvedenými u jednotlivých rozpočtových položek na Soupisce účetních doklad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hodnoty ve sloupci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 Součet prokázaného a prokazovaného v % musí být  max. 100 %!!!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– na jednotlivých rozpočtových položkách nelze čerpat více peněz než je stanoveno v rozpočtu; pokud by mělo čerpání překročit 100 %, je třeba předem udělat změnu rozpočtu!!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nevyplněná pořadová čísla účetních dokladů dle soupisky účetních dokladů v posledním sloupci příloh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Nadpis 1"/>
          <p:cNvGrpSpPr/>
          <p:nvPr/>
        </p:nvGrpSpPr>
        <p:grpSpPr>
          <a:xfrm>
            <a:off x="1047600" y="189000"/>
            <a:ext cx="6870960" cy="1054080"/>
            <a:chOff x="1047600" y="189000"/>
            <a:chExt cx="6870960" cy="1054080"/>
          </a:xfrm>
        </p:grpSpPr>
        <p:pic>
          <p:nvPicPr>
            <p:cNvPr id="82" name="Nadpis 1" descr=""/>
            <p:cNvPicPr/>
            <p:nvPr/>
          </p:nvPicPr>
          <p:blipFill>
            <a:blip r:embed="rId1"/>
            <a:stretch/>
          </p:blipFill>
          <p:spPr>
            <a:xfrm>
              <a:off x="1047600" y="189000"/>
              <a:ext cx="68709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071720" y="214200"/>
              <a:ext cx="682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alibri"/>
                </a:rPr>
                <a:t>Nejčastější pochyben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adpis 1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345520" cy="125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920960" y="1639800"/>
            <a:ext cx="5692680" cy="3979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Malá plastová kalkulačka s přednastaveným kurzem má pomoci Slovákům přejít na euro."/>
          <p:cNvPicPr/>
          <p:nvPr/>
        </p:nvPicPr>
        <p:blipFill>
          <a:blip r:embed="rId3"/>
          <a:stretch/>
        </p:blipFill>
        <p:spPr>
          <a:xfrm>
            <a:off x="133200" y="4638600"/>
            <a:ext cx="17319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chybné údaje ve sloupci „Schválený rozpočet“ –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uvádí se přesně rozpočtové položky a částky dle rozpočtu projektu, který je součástí  uzavřené Smlouvy o realizaci grantového projektu, popř. dodatku ke Smlouvě o realizaci grantového projekt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mazané přednastavené vzorce pro výpočet hodnoty „Platný rozpočet“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schválený či upravený příjemce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úhrn změn rozpočtu projektu za monitorované období není 0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číselné vyjádření hodnoty položek, které se navyšovaly neodpovídá číselnému vyjádření hodnoty položek, které se ponižovaly) =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oučet všech změn ve sloupci Přesun na úkor/ve prospěch položky musí být roven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změny rozpočtu nesmí být prováděny později než dochází k čerpání výdajů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na daných rozpočtových položkách (období, kdy se provádí změna rozpočtu, se uvádí v samostatné tabulce – pomocná tabulka k přepracovanému rozpočtu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 případě nepodstatných změn rozpočtu projektu nesmí být „Přesun prostředků z kapitoly v %“ vyšší než 15 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Nadpis 1"/>
          <p:cNvGrpSpPr/>
          <p:nvPr/>
        </p:nvGrpSpPr>
        <p:grpSpPr>
          <a:xfrm>
            <a:off x="1116000" y="189000"/>
            <a:ext cx="6875640" cy="1054080"/>
            <a:chOff x="1116000" y="189000"/>
            <a:chExt cx="6875640" cy="1054080"/>
          </a:xfrm>
        </p:grpSpPr>
        <p:pic>
          <p:nvPicPr>
            <p:cNvPr id="89" name="Nadpis 1" descr=""/>
            <p:cNvPicPr/>
            <p:nvPr/>
          </p:nvPicPr>
          <p:blipFill>
            <a:blip r:embed="rId1"/>
            <a:stretch/>
          </p:blipFill>
          <p:spPr>
            <a:xfrm>
              <a:off x="1116000" y="189000"/>
              <a:ext cx="68756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143000" y="214200"/>
              <a:ext cx="682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alibri"/>
                </a:rPr>
                <a:t>Nejčastější pochyben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Nadpis 1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345520" cy="1256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420920" y="1639800"/>
            <a:ext cx="6437160" cy="357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media5.picsearch.com/is?k7u5rt1q7spsDbJ_snoiSEtefEWubpbiFRNwP9QX4C8"/>
          <p:cNvPicPr/>
          <p:nvPr/>
        </p:nvPicPr>
        <p:blipFill>
          <a:blip r:embed="rId3"/>
          <a:stretch/>
        </p:blipFill>
        <p:spPr>
          <a:xfrm>
            <a:off x="281160" y="4780080"/>
            <a:ext cx="10602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upozor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ové vzory se musí přikládat při prv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onitorovací zprávě a poté při každé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lena realizačního tý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hybějící podpisy v MZ a jednotlivých příloh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Z a přílohy podepisují jiné osoby než osoby uvedené v podpisových vzor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pravy MZ a příloh na základě checklistu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vádět jako datum vyhotovení opravené MZ či přílohy aktuální datum (neponechávat původní datum tvorby MZ či příloh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Nadpis 1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345520" cy="125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media3.picsearch.com/is?nc0tQgxxvgx5eHelRQyGmhby8yN2eh5aDRsdSvbBhEY"/>
          <p:cNvPicPr/>
          <p:nvPr/>
        </p:nvPicPr>
        <p:blipFill>
          <a:blip r:embed="rId2"/>
          <a:stretch/>
        </p:blipFill>
        <p:spPr>
          <a:xfrm>
            <a:off x="6424560" y="1639800"/>
            <a:ext cx="16527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Nadpis 1"/>
          <p:cNvGrpSpPr/>
          <p:nvPr/>
        </p:nvGrpSpPr>
        <p:grpSpPr>
          <a:xfrm>
            <a:off x="579600" y="176040"/>
            <a:ext cx="11045520" cy="1897200"/>
            <a:chOff x="579600" y="176040"/>
            <a:chExt cx="11045520" cy="1897200"/>
          </a:xfrm>
        </p:grpSpPr>
        <p:pic>
          <p:nvPicPr>
            <p:cNvPr id="100" name="Nadpis 1" descr=""/>
            <p:cNvPicPr/>
            <p:nvPr/>
          </p:nvPicPr>
          <p:blipFill>
            <a:blip r:embed="rId1"/>
            <a:stretch/>
          </p:blipFill>
          <p:spPr>
            <a:xfrm>
              <a:off x="579600" y="176040"/>
              <a:ext cx="1104552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42960" y="214200"/>
              <a:ext cx="73580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1" lang="cs-CZ" sz="2800" spc="-1" strike="noStrike">
                  <a:solidFill>
                    <a:srgbClr val="ffffff"/>
                  </a:solidFill>
                  <a:latin typeface="Calibri"/>
                </a:rPr>
                <a:t>Děkuji Vám za pozornost a                                                               přeji hezké odpoledne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857160" y="2071800"/>
            <a:ext cx="6858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ana Trojan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manažerka – oblast podpory 1.2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495 817 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trojanova@kr-kralovehradecky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0" descr="C:\Users\Iva\Pictures\411.gif"/>
          <p:cNvPicPr/>
          <p:nvPr/>
        </p:nvPicPr>
        <p:blipFill>
          <a:blip r:embed="rId2"/>
          <a:stretch/>
        </p:blipFill>
        <p:spPr>
          <a:xfrm>
            <a:off x="6858000" y="857160"/>
            <a:ext cx="5875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adpis 1" descr=""/>
          <p:cNvPicPr/>
          <p:nvPr/>
        </p:nvPicPr>
        <p:blipFill>
          <a:blip r:embed="rId1"/>
          <a:stretch/>
        </p:blipFill>
        <p:spPr>
          <a:xfrm>
            <a:off x="438120" y="324000"/>
            <a:ext cx="8229600" cy="88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i.idnes.cz/06/043/sp5/VEN129461_Penze2.JPG"/>
          <p:cNvPicPr/>
          <p:nvPr/>
        </p:nvPicPr>
        <p:blipFill>
          <a:blip r:embed="rId2"/>
          <a:stretch/>
        </p:blipFill>
        <p:spPr>
          <a:xfrm>
            <a:off x="493560" y="4565520"/>
            <a:ext cx="1652760" cy="124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2567160" y="1494000"/>
            <a:ext cx="3876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tné prohlášení v monitorovací zprávě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body 14 a 15 (plátce x neplátce DPH) – ponechávat vždy jen jednu z variant dle konkrétního příjem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nedostatečné zdůvodnění změn rozpočtu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pis změn rozpočtu projektu uváděn  v chybné části monitorovací zprávy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musí být v tabulce č. 10 Podstatné a nepodstatné změny, část Změny rozpočtu v monitorovaném období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dokumenty přiložené k MZ nad rámec povinných příloh uvedených v MZ nejsou zapisovány do monitorovací zprávy jako další přílohy k monitorovací zprávě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např. fotografie k aktivitám, fotografie k publicitě, vnitřní směrnice apod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zor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ředkládání monitorovacích zpráv  do 30 kalendářních dnů po uplynutí monitorovaného obdob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Nadpis 1"/>
          <p:cNvGrpSpPr/>
          <p:nvPr/>
        </p:nvGrpSpPr>
        <p:grpSpPr>
          <a:xfrm>
            <a:off x="1401840" y="115920"/>
            <a:ext cx="6089400" cy="974520"/>
            <a:chOff x="1401840" y="115920"/>
            <a:chExt cx="6089400" cy="974520"/>
          </a:xfrm>
        </p:grpSpPr>
        <p:pic>
          <p:nvPicPr>
            <p:cNvPr id="58" name="Nadpis 1" descr=""/>
            <p:cNvPicPr/>
            <p:nvPr/>
          </p:nvPicPr>
          <p:blipFill>
            <a:blip r:embed="rId1"/>
            <a:stretch/>
          </p:blipFill>
          <p:spPr>
            <a:xfrm>
              <a:off x="1401840" y="115920"/>
              <a:ext cx="608940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428840" y="142920"/>
              <a:ext cx="60436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alibri"/>
                </a:rPr>
                <a:t>Nejčastější pochyben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adpis 1" descr=""/>
          <p:cNvPicPr/>
          <p:nvPr/>
        </p:nvPicPr>
        <p:blipFill>
          <a:blip r:embed="rId1"/>
          <a:stretch/>
        </p:blipFill>
        <p:spPr>
          <a:xfrm>
            <a:off x="396720" y="128520"/>
            <a:ext cx="8375760" cy="125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285840" y="1428840"/>
            <a:ext cx="4000320" cy="44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>
            <a:lum bright="-16000"/>
          </a:blip>
          <a:stretch/>
        </p:blipFill>
        <p:spPr>
          <a:xfrm>
            <a:off x="4429080" y="142884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Nadpis 1"/>
          <p:cNvGrpSpPr/>
          <p:nvPr/>
        </p:nvGrpSpPr>
        <p:grpSpPr>
          <a:xfrm>
            <a:off x="1116000" y="189000"/>
            <a:ext cx="5973840" cy="828720"/>
            <a:chOff x="1116000" y="189000"/>
            <a:chExt cx="5973840" cy="828720"/>
          </a:xfrm>
        </p:grpSpPr>
        <p:pic>
          <p:nvPicPr>
            <p:cNvPr id="64" name="Nadpis 1" descr=""/>
            <p:cNvPicPr/>
            <p:nvPr/>
          </p:nvPicPr>
          <p:blipFill>
            <a:blip r:embed="rId1"/>
            <a:stretch/>
          </p:blipFill>
          <p:spPr>
            <a:xfrm>
              <a:off x="1116000" y="189000"/>
              <a:ext cx="59738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143000" y="214200"/>
              <a:ext cx="59292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alibri"/>
                </a:rPr>
                <a:t>Způsob vyplněn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4" descr=""/>
          <p:cNvPicPr/>
          <p:nvPr/>
        </p:nvPicPr>
        <p:blipFill>
          <a:blip r:embed="rId2">
            <a:lum bright="-26000"/>
          </a:blip>
          <a:stretch/>
        </p:blipFill>
        <p:spPr>
          <a:xfrm>
            <a:off x="1571760" y="1214280"/>
            <a:ext cx="5357520" cy="4257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9"/>
          <p:cNvSpPr/>
          <p:nvPr/>
        </p:nvSpPr>
        <p:spPr>
          <a:xfrm>
            <a:off x="544320" y="5429160"/>
            <a:ext cx="767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říjmy projektu nevyplňovat do části „Specifické výdaje“ – Příjmy, ale uvádě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lovně do „Zdůvodnění platby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s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 Žádosti o platbu v Benefitu7 zapisujete finanční částku BEZ úro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ástku úroků za monitorované období zapíšete do zdůvodnění platby (pokud se situace změní a bude se tato částka zapisovat do kolonky ,,Specifické výdaje“ včas Vás o této skutečnosti budeme informov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it vždy na investice a neinves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finalizovat a vytiskn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kud budete ŽoP opravovat, musíme Vám ŽoP vrátit k přepracování tzn. ,,uvolnit opět přístup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Nadpis 1" descr=""/>
          <p:cNvPicPr/>
          <p:nvPr/>
        </p:nvPicPr>
        <p:blipFill>
          <a:blip r:embed="rId1"/>
          <a:stretch/>
        </p:blipFill>
        <p:spPr>
          <a:xfrm>
            <a:off x="1011240" y="324000"/>
            <a:ext cx="7473960" cy="88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Objem peněz utracených na internetu loni rekordně vzrostl."/>
          <p:cNvPicPr/>
          <p:nvPr/>
        </p:nvPicPr>
        <p:blipFill>
          <a:blip r:embed="rId2"/>
          <a:stretch/>
        </p:blipFill>
        <p:spPr>
          <a:xfrm>
            <a:off x="208080" y="4925880"/>
            <a:ext cx="108432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1706400" y="1566720"/>
            <a:ext cx="544356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10713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azení údajů na soupisce účetních dokladů jinak než postupně dle jednotlivých rozpočtových polože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datum úhrady výdaje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– v případě prvotní úhrady výdaje z provozního účtu organizace, uvádět datum úhrady z provozního účtu organizace (doplňkově je možné uvádět i datum refundace z projektového účtu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Částka uvedená na dokladu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– celková částka dle doloženého účetního doklad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Částka zahrnutá k proplacení pro projekt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– částka z účetního dokladu nárokovaná k proplacení v rámci projektu (tato částka nesmí být vyšší než Částka uvedená na dokladu, může být ale i nižší – např. telefonní poplatky, spotřeba elektrické energie apod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nevyplňované číslo smlouvy/objednáv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uvedení výdajů na soupisce, které nebyly v daném monitorovaném období uhrazeny z projektového ú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řazování výdajů do chybných položek rozpočtu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„spotřební materiál pro cílovou skupinu“  či nákup telefonního přístroje patří do kapitoly 3 Zařízení a vybavení nikoliv do kapitoly 4 Místní kancelář, nákup učebnic dostupných v běžné prodejní síti se vykazuje rovněž v kapitole 3 rozpočtu, nikoliv v kapitole 5 – Nákup služeb apod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dělení 1 účetního dokladu do více pořadových čísel účetních dokladů na soupisce v případě, že výdaje z 1 účetního dokladu patří do více rozpočtových položek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v tomto případě ponechat dokladu jen 1 pořadové číslo, i když bude uvedeno na více řádcích v soupisce účetních dokladů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Nadpis 1"/>
          <p:cNvGrpSpPr/>
          <p:nvPr/>
        </p:nvGrpSpPr>
        <p:grpSpPr>
          <a:xfrm>
            <a:off x="1047600" y="115920"/>
            <a:ext cx="6400800" cy="901800"/>
            <a:chOff x="1047600" y="115920"/>
            <a:chExt cx="6400800" cy="901800"/>
          </a:xfrm>
        </p:grpSpPr>
        <p:pic>
          <p:nvPicPr>
            <p:cNvPr id="75" name="Nadpis 1" descr=""/>
            <p:cNvPicPr/>
            <p:nvPr/>
          </p:nvPicPr>
          <p:blipFill>
            <a:blip r:embed="rId1"/>
            <a:stretch/>
          </p:blipFill>
          <p:spPr>
            <a:xfrm>
              <a:off x="1047600" y="115920"/>
              <a:ext cx="640080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071720" y="142920"/>
              <a:ext cx="63579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alibri"/>
                </a:rPr>
                <a:t>Nejčastější pochyben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6" descr="Detail3"/>
          <p:cNvPicPr/>
          <p:nvPr/>
        </p:nvPicPr>
        <p:blipFill>
          <a:blip r:embed="rId2"/>
          <a:stretch/>
        </p:blipFill>
        <p:spPr>
          <a:xfrm>
            <a:off x="5205240" y="3139920"/>
            <a:ext cx="1519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Nadpis 1" descr=""/>
          <p:cNvPicPr/>
          <p:nvPr/>
        </p:nvPicPr>
        <p:blipFill>
          <a:blip r:embed="rId1"/>
          <a:stretch/>
        </p:blipFill>
        <p:spPr>
          <a:xfrm>
            <a:off x="396720" y="201600"/>
            <a:ext cx="8375760" cy="1298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066680" y="1706400"/>
            <a:ext cx="6419880" cy="41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4:00:38Z</dcterms:created>
  <dc:creator>Marcel Zadrobílek</dc:creator>
  <dc:description/>
  <dc:language>en-US</dc:language>
  <cp:lastModifiedBy>Petra Hnátová</cp:lastModifiedBy>
  <dcterms:modified xsi:type="dcterms:W3CDTF">2009-10-19T12:34:03Z</dcterms:modified>
  <cp:revision>961</cp:revision>
  <dc:subject/>
  <dc:title>Snímek 1</dc:title>
</cp:coreProperties>
</file>