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9.gif" ContentType="image/gif"/>
  <Override PartName="/ppt/media/image9.png" ContentType="image/png"/>
  <Override PartName="/ppt/media/image12.png" ContentType="image/png"/>
  <Override PartName="/ppt/media/image31.png" ContentType="image/png"/>
  <Override PartName="/ppt/media/image34.png" ContentType="image/png"/>
  <Override PartName="/ppt/media/image41.gif" ContentType="image/gif"/>
  <Override PartName="/ppt/media/image39.gif" ContentType="image/gif"/>
  <Override PartName="/ppt/media/image35.png" ContentType="image/png"/>
  <Override PartName="/ppt/media/image5.jpeg" ContentType="image/jpeg"/>
  <Override PartName="/ppt/media/image13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38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20.png" ContentType="image/png"/>
  <Override PartName="/ppt/media/image6.png" ContentType="image/png"/>
  <Override PartName="/ppt/media/image43.gif" ContentType="image/gif"/>
  <Override PartName="/ppt/media/image3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40.gif" ContentType="image/gif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A05F-5D8B-4A57-84F7-A0BD3B652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3EA4-3120-40DB-B494-20D9F5CBF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1ACE-0D9D-4ECE-A327-69E996303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10E3-D86A-40F1-A370-6EE2C42BB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8212-915A-4A91-9573-834BE1D59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D6F5-5907-48BB-B2F5-0EBCE6E55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Rekonstrukce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= zásah do majetku, který má za následek změnu jeho účelu nebo technický parametr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Modernizace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= rozšíření vybavenosti nebo použitelnosti majetk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okud </a:t>
            </a:r>
            <a:r>
              <a:rPr b="1" lang="cs-CZ" sz="1200" spc="-1" strike="noStrike" u="sng">
                <a:solidFill>
                  <a:srgbClr val="ff0000"/>
                </a:solidFill>
                <a:uFillTx/>
                <a:latin typeface="Calibri"/>
              </a:rPr>
              <a:t>je potřeb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pro stavební úpravy stavební povolení nebo ohlášení stavby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pak je nutno doložit pravomocné stavební povolení nebo ohlášení stavby nebo obdobný doklad dle stavební zákona a to nejpozději s ŽoP, ve které jsou výdaje související se stavbou zahrnu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V případě, že pro realizaci stavebních úprav </a:t>
            </a:r>
            <a:r>
              <a:rPr b="1" lang="cs-CZ" sz="1200" spc="-1" strike="noStrike" u="sng">
                <a:solidFill>
                  <a:srgbClr val="ff0000"/>
                </a:solidFill>
                <a:uFillTx/>
                <a:latin typeface="Calibri"/>
              </a:rPr>
              <a:t>není potřeb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tavební povolení nebo ohlášení stavby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ani obdobný doklad dle stavebního zákona, doloží příjemce čestné prohlášení, že toto není potřeba dle výše zmíněného záko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DEF7-99B6-47CF-B57E-C54081D95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11E5-FF20-4A3D-9567-F42629D26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zdové příspěvky – do mzdových příspěvků lze zahrnout pouze počet hodin skutečného školení, není zde možnost zahrnovat i dobu strávenou na cestě na školen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B2C4-F709-4371-9C10-725BD7D45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působilé jsou výdaje za vedení projektového účtu, které vznikly v době po ukončení projektu do předložení závěrečné MZ a Ž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4B4E-D03F-4209-9472-EA04EE95A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0042-3D82-47DF-8B47-28E1EB6AA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A502-EB0E-496A-BEDA-42ECBE573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E703-DCE2-43AD-B169-B882E713C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9DEC-9623-4529-8500-3E7E4A47B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C434-9198-4F62-BA82-7EFCAF20D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53F0-11E9-4A4D-8EB9-3909BD87D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E504-B238-4987-A53A-233A6706A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DAF8-562C-4A94-A0B6-560A8E9BA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CA9E-144C-4233-A7A8-6CD2159D4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1F47-3D89-4DC4-A4DB-8F0EEE034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4ADE-A2E9-42D5-ABF8-7BD302762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A178-817A-49C4-AE1A-8A2486F77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E3D4-8E00-4A59-99A5-FE75AC057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EF42-3138-431F-A55F-3FB4CF29A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9D69-E528-4389-9878-59E683CE8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71D8-506C-402D-A5A2-80FD8CB84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B35-618E-40DF-8265-FCCC07C1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9CC-91C0-414D-A92C-A475DD48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1C3-8AB1-4C11-BBE6-386D671E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D79-F37E-4ACA-87B7-9D2EE6F1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832-0A70-48B6-BEE6-61C669D5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4AB-1076-4BF7-BCAD-A665026D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AA9-EB4D-470B-B210-EFE0EBF3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4A6-87AB-4040-86D1-C8AE8CD0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919-A170-430D-BD72-B2349EC9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85F-9419-4CAA-834F-918E35D4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732-F352-435C-826C-A7D965DF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C92-C672-478E-9BC9-1346C803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C96B-C45C-4CDA-8567-F97DB1D2CE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39.gif"/><Relationship Id="rId3" Type="http://schemas.openxmlformats.org/officeDocument/2006/relationships/image" Target="../media/image43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Nadpis 1" descr=""/>
          <p:cNvPicPr/>
          <p:nvPr/>
        </p:nvPicPr>
        <p:blipFill>
          <a:blip r:embed="rId1"/>
          <a:stretch/>
        </p:blipFill>
        <p:spPr>
          <a:xfrm>
            <a:off x="865080" y="324000"/>
            <a:ext cx="7193160" cy="232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857680" y="4000680"/>
            <a:ext cx="43574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6. října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Hradec Král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ázek 3" descr="CSM002715.jpg"/>
          <p:cNvPicPr/>
          <p:nvPr/>
        </p:nvPicPr>
        <p:blipFill>
          <a:blip r:embed="rId2"/>
          <a:stretch/>
        </p:blipFill>
        <p:spPr>
          <a:xfrm>
            <a:off x="493560" y="3565440"/>
            <a:ext cx="200052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585000" y="5643720"/>
            <a:ext cx="7755120" cy="215640"/>
          </a:xfrm>
          <a:prstGeom prst="rect">
            <a:avLst/>
          </a:prstGeom>
          <a:solidFill>
            <a:srgbClr val="3366ff">
              <a:alpha val="59000"/>
            </a:srgbClr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Arial"/>
              </a:rPr>
              <a:t>TENTO PROJEKT JE SPOLUFINANCOVÁN EVROPSKÝM SOCIÁLNÍM FONDEM A STÁTNÍM ROZPOČTEM ČESKÉ REPUBLIK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5"/>
          <p:cNvSpPr/>
          <p:nvPr/>
        </p:nvSpPr>
        <p:spPr>
          <a:xfrm>
            <a:off x="928800" y="2864520"/>
            <a:ext cx="7072200" cy="9471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3a7ccb"/>
              </a:gs>
            </a:gsLst>
            <a:lin ang="16200000"/>
          </a:gradFill>
          <a:ln cap="rnd"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apitoly rozpočtu 3 až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Nadpis 1" descr=""/>
          <p:cNvPicPr/>
          <p:nvPr/>
        </p:nvPicPr>
        <p:blipFill>
          <a:blip r:embed="rId1"/>
          <a:stretch/>
        </p:blipFill>
        <p:spPr>
          <a:xfrm>
            <a:off x="396720" y="237960"/>
            <a:ext cx="8345520" cy="1256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img.ihned.cz/attachment.php/820/15532820/kMxc1hriQ5nOamz647fswLN3bIJA28dU/penize_mince_rozpocet__192x128_.jpg"/>
          <p:cNvPicPr/>
          <p:nvPr/>
        </p:nvPicPr>
        <p:blipFill>
          <a:blip r:embed="rId2"/>
          <a:stretch/>
        </p:blipFill>
        <p:spPr>
          <a:xfrm>
            <a:off x="2919240" y="2852640"/>
            <a:ext cx="29577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78588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musí před zahájením čerpání z této kapitoly posoudit, jaká je předpokládaná cena pořizovaných služeb obdobného charakteru a zda zakládá povinnost realizovat zadávací řízení podle pravidel OP VK uvedených v Příručce pro příjemce či podle zákona o veřejných zakázká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dávky veškerých služeb musí být v souladu s cíli projektu a sloužit k naplňování aktiv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davatelem služeb v rámci projektu nemůže být osoba, která má uzavřen pracovně právní vztah s příjemce/partnerem, a výdaje na něj jsou hrazeny v rámci kapitoly rozpočtu 1 Osobní nákla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Obrázek 6" descr="Detail3"/>
          <p:cNvPicPr/>
          <p:nvPr/>
        </p:nvPicPr>
        <p:blipFill>
          <a:blip r:embed="rId1"/>
          <a:stretch/>
        </p:blipFill>
        <p:spPr>
          <a:xfrm>
            <a:off x="3992400" y="4853160"/>
            <a:ext cx="12988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28760" y="5716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této kapitoly rozpočtu lze hradi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blikace/školící materiály/manuály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atří sem veškeré služby, které jsou z projektu hrazeny za účelem zhotovení školících pomůcek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jedná se o publikace, učebnice a další studijní materiály, které jsou volně dostupné v obchodní síti – ty musí být zahrnuty do kapitoly 3 Zařízení)</a:t>
            </a:r>
            <a:r>
              <a:rPr b="0" i="1" lang="cs-CZ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dborné služby/Studie a výzkum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padá sem zpracování studií pro účely projektu, ale i veškeré další odborné služby – např. zpracování účetnictví, zřízení internetových stránek apo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áklady na konference/kurzy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jedná se o výdaje spojené s např. pronájmem konferenčního sálu, konferenční techniky, apod.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áklady související s členy realizačního týmu jsou zahrnuty v kapitole 2 Cestovní náhrady)</a:t>
            </a:r>
            <a:r>
              <a:rPr b="0" lang="cs-CZ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Obrázek 6" descr=""/>
          <p:cNvPicPr/>
          <p:nvPr/>
        </p:nvPicPr>
        <p:blipFill>
          <a:blip r:embed="rId1"/>
          <a:stretch/>
        </p:blipFill>
        <p:spPr>
          <a:xfrm>
            <a:off x="281160" y="1920960"/>
            <a:ext cx="938160" cy="730080"/>
          </a:xfrm>
          <a:prstGeom prst="rect">
            <a:avLst/>
          </a:prstGeom>
          <a:ln w="0">
            <a:noFill/>
          </a:ln>
        </p:spPr>
      </p:pic>
      <p:pic>
        <p:nvPicPr>
          <p:cNvPr id="78" name="Obrázek 7" descr=""/>
          <p:cNvPicPr/>
          <p:nvPr/>
        </p:nvPicPr>
        <p:blipFill>
          <a:blip r:embed="rId2"/>
          <a:stretch/>
        </p:blipFill>
        <p:spPr>
          <a:xfrm>
            <a:off x="4065480" y="5065560"/>
            <a:ext cx="115272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716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dpora účastníků (stravné, ubytování</a:t>
            </a:r>
            <a:r>
              <a:rPr b="0" lang="cs-CZ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jsou nastaveny cenové limity pro stravné maximálně 300,- Kč na osobu za celý den a ubytování maximálně 1.200,- Kč za osobu a noc; Ubytování je možné hradit pouze cílové skupině, stravné Stravné je možné poskytnou i dalším účastníkům akce, pokud bude zdůvodněna souvislost s realizací projektu.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travné realizačního týmu je zahrnuto v kapitole 2 Cestovní náhrad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iné náklady</a:t>
            </a:r>
            <a:r>
              <a:rPr b="0" lang="cs-CZ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padají sem výdaje na právní poradenství, znalecké posudky, na administraci zakázek podle zákona o veřejných zakázkách č. 137/2006 Sb., a další služby pokud přímo souvisejí s činností projektu a jsou nezbytné pro jeho realizaci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Obrázek 6" descr=""/>
          <p:cNvPicPr/>
          <p:nvPr/>
        </p:nvPicPr>
        <p:blipFill>
          <a:blip r:embed="rId1"/>
          <a:stretch/>
        </p:blipFill>
        <p:spPr>
          <a:xfrm>
            <a:off x="3279600" y="2919240"/>
            <a:ext cx="13716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Nadpis 1" descr=""/>
          <p:cNvPicPr/>
          <p:nvPr/>
        </p:nvPicPr>
        <p:blipFill>
          <a:blip r:embed="rId1"/>
          <a:stretch/>
        </p:blipFill>
        <p:spPr>
          <a:xfrm>
            <a:off x="396720" y="237960"/>
            <a:ext cx="8345520" cy="1256040"/>
          </a:xfrm>
          <a:prstGeom prst="rect">
            <a:avLst/>
          </a:prstGeom>
          <a:ln w="0">
            <a:noFill/>
          </a:ln>
        </p:spPr>
      </p:pic>
      <p:pic>
        <p:nvPicPr>
          <p:cNvPr id="82" name="Zástupný symbol pro obsah 6" descr=""/>
          <p:cNvPicPr/>
          <p:nvPr/>
        </p:nvPicPr>
        <p:blipFill>
          <a:blip r:embed="rId2"/>
          <a:stretch/>
        </p:blipFill>
        <p:spPr>
          <a:xfrm>
            <a:off x="4565520" y="1420920"/>
            <a:ext cx="1298880" cy="944280"/>
          </a:xfrm>
          <a:prstGeom prst="rect">
            <a:avLst/>
          </a:prstGeom>
          <a:ln w="0">
            <a:noFill/>
          </a:ln>
        </p:spPr>
      </p:pic>
      <p:sp>
        <p:nvSpPr>
          <p:cNvPr id="83" name="TextovéPole 5"/>
          <p:cNvSpPr/>
          <p:nvPr/>
        </p:nvSpPr>
        <p:spPr>
          <a:xfrm>
            <a:off x="357120" y="1785960"/>
            <a:ext cx="742968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rámci této kapitoly lze uplatnit výdaje 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.1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robné stavební úprav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za předpokladu, že částka za všechny dokončené stavební úpravy v jednom zdaňovacím období nepřesáhne v úhrnu 40.000,- Kč na každou jednotlivou účetní položku majet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.2 Stavební úpravy v rámci křížového financová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které jsou rekonstrukcí nebo modernizací, pokud převýšily u jednotlivé účetní položky majetku v úhrnu ve zdaňovacím období částku 40.000,- K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ební úpravy nad 40.000,- Kč lze provádět pouze na majetku příjemce, případně </a:t>
            </a:r>
            <a:r>
              <a:rPr b="0" lang="cs-CZ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ů, nikoli na majetku, který je v pronájmu!!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případě škol a školských zařízení je možné stavební úpravy nad 40.000,- Kč </a:t>
            </a:r>
            <a:r>
              <a:rPr b="0" lang="cs-CZ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ovat na majetku zřizovatel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případě stavební úprav musí příjemce doložit dokumenty stanovené Příručkou pro příjem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Nadpis 1" descr=""/>
          <p:cNvPicPr/>
          <p:nvPr/>
        </p:nvPicPr>
        <p:blipFill>
          <a:blip r:embed="rId1"/>
          <a:stretch/>
        </p:blipFill>
        <p:spPr>
          <a:xfrm>
            <a:off x="396720" y="237960"/>
            <a:ext cx="8345520" cy="1256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media5.picsearch.com/is?k7u5rt1q7spsDbJ_snoiSEtefEWubpbiFRNwP9QX4C8"/>
          <p:cNvPicPr/>
          <p:nvPr/>
        </p:nvPicPr>
        <p:blipFill>
          <a:blip r:embed="rId2"/>
          <a:stretch/>
        </p:blipFill>
        <p:spPr>
          <a:xfrm>
            <a:off x="5851440" y="4853160"/>
            <a:ext cx="1062000" cy="1011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9285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 této kapitoly spada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výdaje týkající se přímo cílové skupin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při zapojení do projektových aktiv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ýdaje na přímou podporu mohou být poskytovány nejvýše do úrovně 20 % celkových způsobilých výdajů projektu. Tento limit musí být dodržen i při závěrečném vyúčtování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7858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 této kapitole lze uplatnit výdaje 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7.1 Mzdové příspěvk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sou poskytovány zaměstnavateli jako náhrada části mzdových nákladů na jejich pracovníka po dobu jeho účasti na dalším vzdělávání. Mohou se týkat pouze pedagogických, akademických a dalších pracovníků ve školství a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jsou poskytovány do výše 70 % skutečně vyplacených mzdových nákladů, maximálně však do výše číselně odpovídající dvojnásobku minimální mzdy platné v době konání školení.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okladování mzdových příspěvků (položka rozpočtu 7.1) – nutné doložit k žádosti o platbu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mlouva o vzdělávání mezi příjemcem a zaměstnavatelem školených oso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ezenční listina s vyznačením délky trvání škole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ozpis mzdových příspěvků (obdoba rozpisu mzdových nákladů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opie výplatní pásky školených oso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" descr="Malá plastová kalkulačka s přednastaveným kurzem má pomoci Slovákům přejít na euro."/>
          <p:cNvPicPr/>
          <p:nvPr/>
        </p:nvPicPr>
        <p:blipFill>
          <a:blip r:embed="rId1"/>
          <a:srcRect l="-1428" t="-3012" r="-1730" b="-3489"/>
          <a:stretch/>
        </p:blipFill>
        <p:spPr>
          <a:xfrm>
            <a:off x="214200" y="4714920"/>
            <a:ext cx="1357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7.2 Cestovné, ubytování, strav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zaměstnanců, je povinen zaměstnavatel doložit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pis cestovních náhrad a doložit jej kopiemi příslušných dokladů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j. cestovní příkaz, jízdenky, doklady o ubytování apod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případě žáků a studentů se cestovné vyúčtovává na základě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ložených jízdních výdajů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ální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mit na ubytování v ČR činní 1.200,- Kč na osobu a no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řípadně nižší dle interních předpisů dané organizac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ální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mit pro stravné je 300,- Kč na osobu za celodenní stravov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ze též hradit stravování v souladu se Zákoníkem práce, nebo v odůvodněných případech mohou být poskytnuty stravenky v odpovídající výš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hubalek.net/images/boty.png"/>
          <p:cNvPicPr/>
          <p:nvPr/>
        </p:nvPicPr>
        <p:blipFill>
          <a:blip r:embed="rId1"/>
          <a:stretch/>
        </p:blipFill>
        <p:spPr>
          <a:xfrm>
            <a:off x="3780000" y="5205240"/>
            <a:ext cx="10112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foto02"/>
          <p:cNvPicPr/>
          <p:nvPr/>
        </p:nvPicPr>
        <p:blipFill>
          <a:blip r:embed="rId1"/>
          <a:stretch/>
        </p:blipFill>
        <p:spPr>
          <a:xfrm>
            <a:off x="3333600" y="3693960"/>
            <a:ext cx="1762200" cy="1543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2142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7.3 Doprovodné aktivit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spadají sem výdaje na zajištění asistenta případně asistentských služeb poskytovaných přímo zástupcům cílových skupin – jedná se zejména o žáky handicapované, se speciálními potřebami, dále služby spojené s péčí o děti či jiné závislé osoby tak, aby se osoba spadající do cílové skupiny mohla zúčastnit projektových aktiv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Nadpis 1" descr=""/>
          <p:cNvPicPr/>
          <p:nvPr/>
        </p:nvPicPr>
        <p:blipFill>
          <a:blip r:embed="rId1"/>
          <a:stretch/>
        </p:blipFill>
        <p:spPr>
          <a:xfrm>
            <a:off x="396720" y="195120"/>
            <a:ext cx="8345520" cy="1298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dá se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1 Audit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u projektů jejichž rozpočet je roven nebo vyšší než 3.000.000,- Kč včetně D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2 Publicita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lze zde čerpat finanční prostředky na náklady pojené se zajištěním povinné publicity projektu, která byla příjemcem definována v projektové žádos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3 Ostat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jedná se zejména o poplatky za vedení projektového účtu, notářské a správní poplatky, které jsou pro realizaci projektu nezbytn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ýdaje za zřízení a vedení bankovního účtu, které vznikly před zahájením projektu podle Smlouvy o realizaci GP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jsou  způsobilé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Detail3"/>
          <p:cNvPicPr/>
          <p:nvPr/>
        </p:nvPicPr>
        <p:blipFill>
          <a:blip r:embed="rId1"/>
          <a:stretch/>
        </p:blipFill>
        <p:spPr>
          <a:xfrm>
            <a:off x="714240" y="1357200"/>
            <a:ext cx="7775640" cy="4392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60000">
            <a:off x="2301480" y="1755360"/>
            <a:ext cx="4829040" cy="194472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Členění způsobilých výdajů dle kapitol rozpočtu včetně nejčastějších pochybe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Křížové financová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Nezpůsobilé výdaje projek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Závě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1" descr="ALAMY-AC4YBB"/>
          <p:cNvPicPr/>
          <p:nvPr/>
        </p:nvPicPr>
        <p:blipFill>
          <a:blip r:embed="rId2"/>
          <a:stretch/>
        </p:blipFill>
        <p:spPr>
          <a:xfrm rot="60000">
            <a:off x="6076800" y="2506680"/>
            <a:ext cx="720720" cy="514440"/>
          </a:xfrm>
          <a:prstGeom prst="rect">
            <a:avLst/>
          </a:prstGeom>
          <a:ln w="0">
            <a:noFill/>
          </a:ln>
        </p:spPr>
      </p:pic>
      <p:pic>
        <p:nvPicPr>
          <p:cNvPr id="56" name="Nadpis 1" descr=""/>
          <p:cNvPicPr/>
          <p:nvPr/>
        </p:nvPicPr>
        <p:blipFill>
          <a:blip r:embed="rId3"/>
          <a:stretch/>
        </p:blipFill>
        <p:spPr>
          <a:xfrm>
            <a:off x="579600" y="176040"/>
            <a:ext cx="7978680" cy="11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Ještě nejste unave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Iva\Pictures\dopr010.gif"/>
          <p:cNvPicPr/>
          <p:nvPr/>
        </p:nvPicPr>
        <p:blipFill>
          <a:blip r:embed="rId1"/>
          <a:stretch/>
        </p:blipFill>
        <p:spPr>
          <a:xfrm>
            <a:off x="1714680" y="1143000"/>
            <a:ext cx="1785600" cy="23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Obdélník 4"/>
          <p:cNvSpPr/>
          <p:nvPr/>
        </p:nvSpPr>
        <p:spPr>
          <a:xfrm>
            <a:off x="3219840" y="3571920"/>
            <a:ext cx="45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ak jedeme dál 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:\Users\Iva\Pictures\motocykl03.gif"/>
          <p:cNvPicPr/>
          <p:nvPr/>
        </p:nvPicPr>
        <p:blipFill>
          <a:blip r:embed="rId2"/>
          <a:stretch/>
        </p:blipFill>
        <p:spPr>
          <a:xfrm>
            <a:off x="5638680" y="4425840"/>
            <a:ext cx="1438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Nadpis 1" descr=""/>
          <p:cNvPicPr/>
          <p:nvPr/>
        </p:nvPicPr>
        <p:blipFill>
          <a:blip r:embed="rId1"/>
          <a:stretch/>
        </p:blipFill>
        <p:spPr>
          <a:xfrm>
            <a:off x="396720" y="237960"/>
            <a:ext cx="8345520" cy="1256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álně do výše 9 %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kových způsobilých výdajů proje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ximální procentuální limit schválený v rozpočtu projektu, který je součástí Smlouvy o realizaci GP, nesmí být překročen, a to ani při závěrečném vyúčtování projekt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j. musí být zachován stanovený podíl i na objemu celkových skutečně vynaložených způsobilých výdajů v rámci projektu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yšování kapitoly KF není v průběhu projektu bez řádného zdůvodnění možné – jedná vždy o podstatnou změnu v projektu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4288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řížové financování se prolíná ve více kapitolách rozpočtu – v kapitole 3 Zařízení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(podkapitola 3.8 Křížové financování)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a v kapitole 6 Stavební úpravy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(podkapitola 6.2 Stavební úpravy v rámci křížového financování)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Pokud bude příjemce čerpat prostředky na křížové financování v rámci obou kapitol, platí stále limit 9 % celkových způsobilých výdajů schválených v rozpočtu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media3.picsearch.com/is?yZhrm43liF-drBaEH5jVNcyJw3gZAVv2vBV8eTMAL30"/>
          <p:cNvPicPr/>
          <p:nvPr/>
        </p:nvPicPr>
        <p:blipFill>
          <a:blip r:embed="rId1"/>
          <a:stretch/>
        </p:blipFill>
        <p:spPr>
          <a:xfrm>
            <a:off x="3352680" y="420840"/>
            <a:ext cx="178596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857160"/>
            <a:ext cx="7829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" descr="C:\Users\Iva\Desktop\nebezpeci.png"/>
          <p:cNvPicPr/>
          <p:nvPr/>
        </p:nvPicPr>
        <p:blipFill>
          <a:blip r:embed="rId1"/>
          <a:stretch/>
        </p:blipFill>
        <p:spPr>
          <a:xfrm>
            <a:off x="6711840" y="781200"/>
            <a:ext cx="1225800" cy="1114200"/>
          </a:xfrm>
          <a:prstGeom prst="rect">
            <a:avLst/>
          </a:prstGeom>
          <a:ln w="0">
            <a:noFill/>
          </a:ln>
        </p:spPr>
      </p:pic>
      <p:sp>
        <p:nvSpPr>
          <p:cNvPr id="105" name="TextovéPole 3"/>
          <p:cNvSpPr/>
          <p:nvPr/>
        </p:nvSpPr>
        <p:spPr>
          <a:xfrm>
            <a:off x="2928960" y="2214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4"/>
          <p:cNvSpPr/>
          <p:nvPr/>
        </p:nvSpPr>
        <p:spPr>
          <a:xfrm>
            <a:off x="571680" y="1000080"/>
            <a:ext cx="742932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klady výdajů nespadající do křížového financování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daje patřící do oblasti pomoci ESF, a to včetně odpisů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daje na nákup pozemků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daje na nákup budov, domů a bytových či nebytových </a:t>
            </a: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or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daje na nákup vozide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daje na nákup majetku s dobou použitelnosti delší než 1 rok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řizovací cenou nad 40.000,- Kč, pokud je možné jej </a:t>
            </a: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řídit v nezbytné kvalitě za cenu nižší nebo není </a:t>
            </a: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íván k realizaci aktivit, na kterých se podílí cílová </a:t>
            </a: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upin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ále dle informací uvedených v Příručce pro příjem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Nadpis 1" descr=""/>
          <p:cNvPicPr/>
          <p:nvPr/>
        </p:nvPicPr>
        <p:blipFill>
          <a:blip r:embed="rId1"/>
          <a:stretch/>
        </p:blipFill>
        <p:spPr>
          <a:xfrm>
            <a:off x="365040" y="249120"/>
            <a:ext cx="8345520" cy="1251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 nezpůsobilých výdajích hovoří přímo Příručka pro příjemce – jedná se například 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áklady na audit u projektu s nižším rozpočtem než 3 mil. Kč včetně DPH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zdové náklady zaměstnanců, kteří se na realizaci projektu nepodílejí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vzniklé mimo časový rámec způsobilosti výdajů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ájemné, pokud je příjemce vlastníkem nemovitosti a nebo pokud ji užívá zdarm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 přípravou projektu a řízením projektu v případě, že se jedná o externí dodavate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ežijní náklady vztahující se k všeobecnému provozu organizace bez vazby na projekt ap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infos.infos.cz/download/internet/doc/images/vykricnik.jpg"/>
          <p:cNvPicPr/>
          <p:nvPr/>
        </p:nvPicPr>
        <p:blipFill>
          <a:blip r:embed="rId2"/>
          <a:stretch/>
        </p:blipFill>
        <p:spPr>
          <a:xfrm>
            <a:off x="781200" y="353880"/>
            <a:ext cx="10112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6829200" cy="114300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3. Závě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0" descr="http://www.2zskolin.cz/obrazky/cas30j.gif"/>
          <p:cNvPicPr/>
          <p:nvPr/>
        </p:nvPicPr>
        <p:blipFill>
          <a:blip r:embed="rId1"/>
          <a:stretch/>
        </p:blipFill>
        <p:spPr>
          <a:xfrm>
            <a:off x="2786040" y="3252960"/>
            <a:ext cx="23576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0253f"/>
                </a:solidFill>
                <a:latin typeface="Calibri"/>
              </a:rPr>
              <a:t>Hodně štěstí a pevných nervů nejen při realizaci projektu, tvorbě monitorovacích zpráv a jednotlivých příloh, ale i v osobním živo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ttp://blog.idnes.cz/blog/6233/63608/clanok_foto.jpg"/>
          <p:cNvPicPr/>
          <p:nvPr/>
        </p:nvPicPr>
        <p:blipFill>
          <a:blip r:embed="rId1"/>
          <a:stretch/>
        </p:blipFill>
        <p:spPr>
          <a:xfrm>
            <a:off x="3638520" y="3067200"/>
            <a:ext cx="21528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Nadpis 1"/>
          <p:cNvGrpSpPr/>
          <p:nvPr/>
        </p:nvGrpSpPr>
        <p:grpSpPr>
          <a:xfrm>
            <a:off x="579600" y="176040"/>
            <a:ext cx="11045520" cy="1897200"/>
            <a:chOff x="579600" y="176040"/>
            <a:chExt cx="11045520" cy="1897200"/>
          </a:xfrm>
        </p:grpSpPr>
        <p:pic>
          <p:nvPicPr>
            <p:cNvPr id="116" name="Nadpis 1" descr=""/>
            <p:cNvPicPr/>
            <p:nvPr/>
          </p:nvPicPr>
          <p:blipFill>
            <a:blip r:embed="rId1"/>
            <a:stretch/>
          </p:blipFill>
          <p:spPr>
            <a:xfrm>
              <a:off x="579600" y="176040"/>
              <a:ext cx="1104552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42960" y="214200"/>
              <a:ext cx="73580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800"/>
              </a:br>
              <a:r>
                <a:rPr b="1" lang="cs-CZ" sz="2800" spc="-1" strike="noStrike">
                  <a:solidFill>
                    <a:srgbClr val="ffffff"/>
                  </a:solidFill>
                  <a:latin typeface="Calibri"/>
                </a:rPr>
                <a:t>Děkuji Vám za pozornost a                                                               přeji hezký zbytek dne 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857160" y="2071800"/>
            <a:ext cx="6858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c. Pavla Mázlová, D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manažerka OP VK, oblast podpory 1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495 817 2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mazlova@kr-kralovehradecky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Obrázek 4" descr="j0163103.gif"/>
          <p:cNvPicPr/>
          <p:nvPr/>
        </p:nvPicPr>
        <p:blipFill>
          <a:blip r:embed="rId2"/>
          <a:stretch/>
        </p:blipFill>
        <p:spPr>
          <a:xfrm>
            <a:off x="1500120" y="4286160"/>
            <a:ext cx="449280" cy="43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:\Users\Iva\Pictures\smajl037.gif"/>
          <p:cNvPicPr/>
          <p:nvPr/>
        </p:nvPicPr>
        <p:blipFill>
          <a:blip r:embed="rId3"/>
          <a:stretch/>
        </p:blipFill>
        <p:spPr>
          <a:xfrm>
            <a:off x="3714840" y="2928960"/>
            <a:ext cx="912600" cy="785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C:\Users\Iva\Pictures\411.gif"/>
          <p:cNvPicPr/>
          <p:nvPr/>
        </p:nvPicPr>
        <p:blipFill>
          <a:blip r:embed="rId4"/>
          <a:stretch/>
        </p:blipFill>
        <p:spPr>
          <a:xfrm>
            <a:off x="6858000" y="857160"/>
            <a:ext cx="58752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Iva\Pictures\20.gif"/>
          <p:cNvPicPr/>
          <p:nvPr/>
        </p:nvPicPr>
        <p:blipFill>
          <a:blip r:embed="rId5"/>
          <a:stretch/>
        </p:blipFill>
        <p:spPr>
          <a:xfrm>
            <a:off x="2779560" y="3638520"/>
            <a:ext cx="7257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g. Marie Chaloup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manažerka OP VK – pověřena řízením oddělení finančních manažer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495 817 28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chaloupkova@kr-kralovehradecky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lena Zachariáš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manažerka OP VK, oblast podpory 1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495 817 38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zachariasova@kr-kralovehradecky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ontakty na další finanční manažery OP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Obrázek 4" descr="j0283576.gif"/>
          <p:cNvPicPr/>
          <p:nvPr/>
        </p:nvPicPr>
        <p:blipFill>
          <a:blip r:embed="rId1"/>
          <a:stretch/>
        </p:blipFill>
        <p:spPr>
          <a:xfrm>
            <a:off x="3000240" y="2786040"/>
            <a:ext cx="500040" cy="522360"/>
          </a:xfrm>
          <a:prstGeom prst="rect">
            <a:avLst/>
          </a:prstGeom>
          <a:ln w="0">
            <a:noFill/>
          </a:ln>
        </p:spPr>
      </p:pic>
      <p:pic>
        <p:nvPicPr>
          <p:cNvPr id="126" name="Obrázek 5" descr="j0163103.gif"/>
          <p:cNvPicPr/>
          <p:nvPr/>
        </p:nvPicPr>
        <p:blipFill>
          <a:blip r:embed="rId2"/>
          <a:stretch/>
        </p:blipFill>
        <p:spPr>
          <a:xfrm>
            <a:off x="1500120" y="3286080"/>
            <a:ext cx="449280" cy="433440"/>
          </a:xfrm>
          <a:prstGeom prst="rect">
            <a:avLst/>
          </a:prstGeom>
          <a:ln w="0">
            <a:noFill/>
          </a:ln>
        </p:spPr>
      </p:pic>
      <p:pic>
        <p:nvPicPr>
          <p:cNvPr id="127" name="Obrázek 8" descr="j0283576.gif"/>
          <p:cNvPicPr/>
          <p:nvPr/>
        </p:nvPicPr>
        <p:blipFill>
          <a:blip r:embed="rId3"/>
          <a:stretch/>
        </p:blipFill>
        <p:spPr>
          <a:xfrm>
            <a:off x="3214800" y="5000760"/>
            <a:ext cx="500040" cy="522000"/>
          </a:xfrm>
          <a:prstGeom prst="rect">
            <a:avLst/>
          </a:prstGeom>
          <a:ln w="0">
            <a:noFill/>
          </a:ln>
        </p:spPr>
      </p:pic>
      <p:pic>
        <p:nvPicPr>
          <p:cNvPr id="128" name="Obrázek 9" descr="j0163103.gif"/>
          <p:cNvPicPr/>
          <p:nvPr/>
        </p:nvPicPr>
        <p:blipFill>
          <a:blip r:embed="rId4"/>
          <a:stretch/>
        </p:blipFill>
        <p:spPr>
          <a:xfrm>
            <a:off x="1785960" y="5429160"/>
            <a:ext cx="4492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ak jdeme na to 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Users\Iva\Pictures\motocykl04.gif"/>
          <p:cNvPicPr/>
          <p:nvPr/>
        </p:nvPicPr>
        <p:blipFill>
          <a:blip r:embed="rId1"/>
          <a:stretch/>
        </p:blipFill>
        <p:spPr>
          <a:xfrm>
            <a:off x="3786120" y="2712960"/>
            <a:ext cx="2309760" cy="20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Nadpis 1" descr=""/>
          <p:cNvPicPr/>
          <p:nvPr/>
        </p:nvPicPr>
        <p:blipFill>
          <a:blip r:embed="rId1"/>
          <a:stretch/>
        </p:blipFill>
        <p:spPr>
          <a:xfrm>
            <a:off x="438120" y="324000"/>
            <a:ext cx="8229600" cy="88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i.idnes.cz/06/043/sp5/VEN129461_Penze2.JPG"/>
          <p:cNvPicPr/>
          <p:nvPr/>
        </p:nvPicPr>
        <p:blipFill>
          <a:blip r:embed="rId2"/>
          <a:stretch/>
        </p:blipFill>
        <p:spPr>
          <a:xfrm>
            <a:off x="493560" y="4565520"/>
            <a:ext cx="1652760" cy="1244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íl výdajů na zařízení včetně křížového financování na celkových způsobilých výdajích smí činit nejvýše 25 %. Tento limit nesmí být překročen ani při závěrečném vyúčtování proje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ořizovaný majetek musí být využíván výhradně pro projekt. V případě, že jej příjemce využívá pro projekt jen částečně, je způsobilá k financování pouze poměrná část náklad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íjemce ani jeho partneři nesmí zapůjčovat vybavení, zařízení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nebo učební pomůcky z projektu pořízené dalším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subjektům, pokud se nejedná o partnery v rámci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roje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0004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3.1 Nehmotný majetek do 60 000 Kč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3.2 Dlouhodobý nehmotný majetek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(v pořizovací ceně nad 60 000 Kč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3.3 Drobný hmotný majetek do 40 000 Kč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– nelze sem zahrnout nábytek bez ohledu na výši jeho pořizovací cen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3.4 Použitý drobný hmotný majetek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– lze pořídit za podmínek níže uvedenýc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daje na nákup tohoto majetku nesmí přesáhnout pořizovací cenu 40.000,- Kč za ku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ejce musí vystavit prohlášení o tom, že majetek nebyl v průběhu uplynulých 7 let získán prostřednictvím veřejných prostředků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pní cena nesmí přesáhnout jeho tržní cenu v čase a místě obvyklou a musí být nižší než výdaje na nové zařízení se stejným využitím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3.5 Nájem zařízení, operativní leasing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– jedná se o způsobilý výdaj pouze v případě, že jsou dodrženy podmínky stanovené Příručkou pro příjemc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3.6 Daňové odpisy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– odpisové sazby pro jednotlivé skupiny jsou stanoveny zákonem č. 586/1992 Sb., o daních z příjmů, ve znění pozdějších předpisů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3.7 Výdaje na opravy a údržbu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sou způsobilé pouze ty výdaje, které se vážou k zařízení a vybavení, jež bylo pořízeno ze způsobilých výdajů daného projektu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3.8 Křížové financ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řízení v rámci křížového financování by mělo být pořízeno prioritně pro potřebu cílové skupiny. Pokud je použito i pro potřeby realizačního týmu, musí se zdůvodnit a vyčíslit výši prostředků připadajících na jeden přepočtený pracovní úvazek členů projektového týmu.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mit na jeden přepočtený pracovní úvazek činí 15 000 Kč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U majetku financovaného v režimu křížového financování může být jeho zbývající část financována i z jiných zdrojů v rámci nezpůsobilých výdajů projek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Objem peněz utracených na internetu loni rekordně vzrostl."/>
          <p:cNvPicPr/>
          <p:nvPr/>
        </p:nvPicPr>
        <p:blipFill>
          <a:blip r:embed="rId1"/>
          <a:stretch/>
        </p:blipFill>
        <p:spPr>
          <a:xfrm>
            <a:off x="3419640" y="4280040"/>
            <a:ext cx="137160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1388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3.8.1 Investiční čá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na nábytek v pořizovací ceně od 40 000 Kč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bavení – za podmínek, že jej nelze pořídit v nezbytné kvalitě a ceně za cenu nižší než 40 000 Kč, vybavení musí být používáno k realizaci aktivit na kterých se podílí cílová skupina nebo musí být respektováno omezení pro realizační tý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Pořízení interaktivní tabule včetně zařízení sloužícího k zajištění funkčnosti považováno za součást souboru movitých věcí se samostatný technicko-ekonomickým určení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3.8.2 Neinvestiční čá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ábytek v pořizovací ceně do 40 000 Kč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stavěné skříně s pořizovací cenou do 40 000 Kč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Detail3"/>
          <p:cNvPicPr/>
          <p:nvPr/>
        </p:nvPicPr>
        <p:blipFill>
          <a:blip r:embed="rId1"/>
          <a:stretch/>
        </p:blipFill>
        <p:spPr>
          <a:xfrm>
            <a:off x="4280040" y="3279600"/>
            <a:ext cx="15112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Nadpis 1" descr=""/>
          <p:cNvPicPr/>
          <p:nvPr/>
        </p:nvPicPr>
        <p:blipFill>
          <a:blip r:embed="rId1"/>
          <a:stretch/>
        </p:blipFill>
        <p:spPr>
          <a:xfrm>
            <a:off x="798480" y="324000"/>
            <a:ext cx="7370640" cy="104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díl výdajů celé kapitoly na celkových způsobilých výdajích projektu smí činit nejvýše 8 % a tento limit musí být dodržen i při závěrečném vyúčtování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á se o výdaje, které souvisí s provozem kanceláře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způsobilé jsou považovány výdaje na činnosti, které souvisejí s projektem a jsou pro tento účel nezbytn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Obrázek 5" descr="Detail3"/>
          <p:cNvPicPr/>
          <p:nvPr/>
        </p:nvPicPr>
        <p:blipFill>
          <a:blip r:embed="rId2"/>
          <a:stretch/>
        </p:blipFill>
        <p:spPr>
          <a:xfrm>
            <a:off x="4138560" y="3780000"/>
            <a:ext cx="866880" cy="87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7138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U pronájmu a režijních nákladů je nutné používat odpovídají metodiku výpočtu, která musí být zachována po celou dobu realizace projektu včetně závěrečného vyúčtování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okud se organizace podílí na více projektech v rámci OP VK, uplatní ve všech stejnou metodiku výpočt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ro uplatňování výdajů v rámci této kapitoly se příjemce řídí Metodickým dopisem č. 5 Režijní náklady OP VK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Calibri"/>
              </a:rPr>
              <a:t>Nezahrnují se sem výdaje na nájem místností a s ním souvisejících nákladů, jež jsou určeny pro práci s cílovou skupin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http://img.ihned.cz/attachment.php/190/18244190/egxL6BIjmtrw8kHna9oPA34h2TfWN5dl/mzda_mzdy_vyplata__350x210_.jpg"/>
          <p:cNvPicPr/>
          <p:nvPr/>
        </p:nvPicPr>
        <p:blipFill>
          <a:blip r:embed="rId1"/>
          <a:stretch/>
        </p:blipFill>
        <p:spPr>
          <a:xfrm>
            <a:off x="3992400" y="5138640"/>
            <a:ext cx="120816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4:00:38Z</dcterms:created>
  <dc:creator>Marcel Zadrobílek</dc:creator>
  <dc:description/>
  <dc:language>en-US</dc:language>
  <cp:lastModifiedBy>Petra Hnátová</cp:lastModifiedBy>
  <dcterms:modified xsi:type="dcterms:W3CDTF">2009-10-19T12:33:43Z</dcterms:modified>
  <cp:revision>998</cp:revision>
  <dc:subject/>
  <dc:title>Snímek 1</dc:title>
</cp:coreProperties>
</file>